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6.jpeg" ContentType="image/jpeg"/>
  <Override PartName="/ppt/media/image20.wmf" ContentType="image/x-wmf"/>
  <Override PartName="/ppt/media/type.wav" ContentType="audio/x-wav"/>
  <Override PartName="/ppt/media/image17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5.xml" ContentType="application/vnd.openxmlformats-officedocument.presentationml.comments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9:18:25.276000000" idx="1">
    <p:pos x="5508" y="511"/>
    <p:text/>
  </p:cm>
</p:cmLst>
</file>

<file path=ppt/comments/comment22.xml><?xml version="1.0" encoding="utf-8"?>
<p:cmLst xmlns:p="http://schemas.openxmlformats.org/presentationml/2006/main">
  <p:cm authorId="0" dt="2016-08-19T19:18:32.542000000" idx="2">
    <p:pos x="1479" y="49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2B4A-B9B1-4A7A-8F0A-EB45FA73B0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0BC-F82B-4A8C-9D0E-2F5DE44084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708360" y="3468600"/>
            <a:ext cx="4535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348000" y="2637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等式的性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1"/>
          <p:cNvSpPr/>
          <p:nvPr/>
        </p:nvSpPr>
        <p:spPr>
          <a:xfrm>
            <a:off x="1116000" y="2649600"/>
            <a:ext cx="6985080" cy="106884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据等式的性质“等式的两边同时加上或减去同一个数，等式仍然成立。”等式的两边同时减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-6=8-6=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0"/>
          <p:cNvSpPr/>
          <p:nvPr/>
        </p:nvSpPr>
        <p:spPr>
          <a:xfrm>
            <a:off x="2048760" y="3357720"/>
            <a:ext cx="52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=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6732720" y="335772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1063800" y="20034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444680" y="2205000"/>
            <a:ext cx="31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36" name="ZM174.eps" descr="id:2147502392;FounderCES"/>
          <p:cNvPicPr/>
          <p:nvPr/>
        </p:nvPicPr>
        <p:blipFill>
          <a:blip r:embed="rId3"/>
          <a:stretch/>
        </p:blipFill>
        <p:spPr>
          <a:xfrm>
            <a:off x="2320920" y="3213000"/>
            <a:ext cx="4594320" cy="15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1265400" y="2997360"/>
            <a:ext cx="6984720" cy="106884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关键是找出图中的等量关系，根据已知条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未知的数用字母正确的表示出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根据题意列出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059280" y="3500280"/>
            <a:ext cx="26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5=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0"/>
          <p:cNvSpPr/>
          <p:nvPr/>
        </p:nvSpPr>
        <p:spPr>
          <a:xfrm>
            <a:off x="1739880" y="17953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5"/>
          <p:cNvSpPr/>
          <p:nvPr/>
        </p:nvSpPr>
        <p:spPr>
          <a:xfrm>
            <a:off x="4788000" y="22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66" name="矩形 19"/>
          <p:cNvSpPr/>
          <p:nvPr/>
        </p:nvSpPr>
        <p:spPr>
          <a:xfrm>
            <a:off x="1012680" y="2852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掌握等式的性质。等式的性质“等式的两边同时乘或除以同一个数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外），等式仍然成立。”等式的两边同时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=72÷6=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5" name="矩形 14"/>
          <p:cNvSpPr/>
          <p:nvPr/>
        </p:nvSpPr>
        <p:spPr>
          <a:xfrm>
            <a:off x="1739880" y="17953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4788000" y="22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1552680" y="4156200"/>
            <a:ext cx="48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=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4602240" y="463716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1082520" y="1628640"/>
            <a:ext cx="72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Y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下列等式是否成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成立，请指明依据等式的哪条性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04760" y="3338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 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047600" y="4229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 =  Y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334880" y="507348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132520" y="32734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5613480" y="42292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457960" y="56545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性质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  <p:sndAc>
      <p:stSnd>
        <p:snd r:embed="rId1" name="type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6"/>
          <p:cNvSpPr/>
          <p:nvPr/>
        </p:nvSpPr>
        <p:spPr>
          <a:xfrm>
            <a:off x="1278000" y="1557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根据等式的性质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2738520" y="2360520"/>
            <a:ext cx="38480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（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738520" y="3379680"/>
            <a:ext cx="36129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（    ）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2943360" y="4386240"/>
            <a:ext cx="3408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d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963880" y="5305320"/>
            <a:ext cx="36068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÷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5075280" y="23605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827880" y="33606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"/>
          <p:cNvSpPr/>
          <p:nvPr/>
        </p:nvSpPr>
        <p:spPr>
          <a:xfrm>
            <a:off x="5170320" y="432288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9"/>
          <p:cNvSpPr/>
          <p:nvPr/>
        </p:nvSpPr>
        <p:spPr>
          <a:xfrm>
            <a:off x="3983760" y="52434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20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2492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用等式的性质解决简单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并能用语言表述等式的性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63640" y="338616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探索等式的基本性质的过程和数学结论的确定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6"/>
          <p:cNvSpPr/>
          <p:nvPr/>
        </p:nvSpPr>
        <p:spPr>
          <a:xfrm>
            <a:off x="826920" y="1557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保持天平平衡，右边应该添加什么物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2" descr="99"/>
          <p:cNvPicPr/>
          <p:nvPr/>
        </p:nvPicPr>
        <p:blipFill>
          <a:blip r:embed="rId1"/>
          <a:stretch/>
        </p:blipFill>
        <p:spPr>
          <a:xfrm>
            <a:off x="611280" y="2670120"/>
            <a:ext cx="767232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6"/>
          <p:cNvSpPr/>
          <p:nvPr/>
        </p:nvSpPr>
        <p:spPr>
          <a:xfrm>
            <a:off x="826920" y="1700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26"/>
          <p:cNvSpPr/>
          <p:nvPr/>
        </p:nvSpPr>
        <p:spPr>
          <a:xfrm>
            <a:off x="971640" y="256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+5=b+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a=b-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5=b×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3=3÷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230880" y="34815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44364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673740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6737400" y="502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6"/>
          <p:cNvSpPr/>
          <p:nvPr/>
        </p:nvSpPr>
        <p:spPr>
          <a:xfrm>
            <a:off x="971640" y="17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下面的天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出式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M271.eps" descr="id:2147502258;FounderCES"/>
          <p:cNvPicPr/>
          <p:nvPr/>
        </p:nvPicPr>
        <p:blipFill>
          <a:blip r:embed="rId1"/>
          <a:stretch/>
        </p:blipFill>
        <p:spPr>
          <a:xfrm>
            <a:off x="2195640" y="2286000"/>
            <a:ext cx="4824360" cy="26226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3"/>
          <p:cNvSpPr/>
          <p:nvPr/>
        </p:nvSpPr>
        <p:spPr>
          <a:xfrm>
            <a:off x="2987640" y="53737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+20=50+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AutoShape 27"/>
          <p:cNvSpPr/>
          <p:nvPr/>
        </p:nvSpPr>
        <p:spPr>
          <a:xfrm>
            <a:off x="5724360" y="1227240"/>
            <a:ext cx="2954520" cy="1968480"/>
          </a:xfrm>
          <a:prstGeom prst="wedgeRoundRectCallout">
            <a:avLst>
              <a:gd name="adj1" fmla="val -57208"/>
              <a:gd name="adj2" fmla="val -226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加或减必须是同一个数；同时乘或除以也是同一个数，但是除以的数不能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21"/>
          <p:cNvSpPr/>
          <p:nvPr/>
        </p:nvSpPr>
        <p:spPr>
          <a:xfrm>
            <a:off x="480960" y="3789360"/>
            <a:ext cx="8210520" cy="581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i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两边加上或减去同一个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左右两边仍然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455760" y="5084640"/>
            <a:ext cx="8280360" cy="58140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乘同一个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除以同一个不为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左右两边仍然相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4"/>
          <p:cNvSpPr/>
          <p:nvPr/>
        </p:nvSpPr>
        <p:spPr>
          <a:xfrm>
            <a:off x="1987560" y="45021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5227560" y="4538520"/>
            <a:ext cx="28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79720" y="3200400"/>
            <a:ext cx="1105200" cy="523800"/>
          </a:xfrm>
          <a:prstGeom prst="rect">
            <a:avLst/>
          </a:prstGeom>
          <a:ln w="0">
            <a:noFill/>
          </a:ln>
        </p:spPr>
      </p:pic>
      <p:sp>
        <p:nvSpPr>
          <p:cNvPr id="60" name="同侧圆角矩形 14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517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27040" y="2616120"/>
            <a:ext cx="3527280" cy="1665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930920" y="2616120"/>
            <a:ext cx="360828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4356000" y="1530360"/>
            <a:ext cx="2138400" cy="536400"/>
          </a:xfrm>
          <a:prstGeom prst="wedgeRoundRectCallout">
            <a:avLst>
              <a:gd name="adj1" fmla="val 18365"/>
              <a:gd name="adj2" fmla="val 1913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左边加了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998880" y="3021120"/>
            <a:ext cx="1371600" cy="628560"/>
          </a:xfrm>
          <a:prstGeom prst="rect">
            <a:avLst/>
          </a:prstGeom>
          <a:ln w="0">
            <a:noFill/>
          </a:ln>
        </p:spPr>
      </p:pic>
      <p:sp>
        <p:nvSpPr>
          <p:cNvPr id="67" name="同侧圆角矩形 8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36560" y="5589720"/>
            <a:ext cx="7783560" cy="5508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两边同时加上同一个数，等式仍然成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47800" y="2835360"/>
            <a:ext cx="3265560" cy="14619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7"/>
          <p:cNvSpPr/>
          <p:nvPr/>
        </p:nvSpPr>
        <p:spPr>
          <a:xfrm>
            <a:off x="611280" y="1476360"/>
            <a:ext cx="1430280" cy="868320"/>
          </a:xfrm>
          <a:prstGeom prst="wedgeRoundRectCallout">
            <a:avLst>
              <a:gd name="adj1" fmla="val 18365"/>
              <a:gd name="adj2" fmla="val 120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左边加了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2690640" y="1476360"/>
            <a:ext cx="1584360" cy="868320"/>
          </a:xfrm>
          <a:prstGeom prst="wedgeRoundRectCallout">
            <a:avLst>
              <a:gd name="adj1" fmla="val 20171"/>
              <a:gd name="adj2" fmla="val 125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右边也加了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752400" y="4641840"/>
            <a:ext cx="31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+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5219640" y="2592360"/>
            <a:ext cx="2990880" cy="17049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7"/>
          <p:cNvSpPr/>
          <p:nvPr/>
        </p:nvSpPr>
        <p:spPr>
          <a:xfrm>
            <a:off x="4788000" y="1347840"/>
            <a:ext cx="1430280" cy="869760"/>
          </a:xfrm>
          <a:prstGeom prst="wedgeRoundRectCallout">
            <a:avLst>
              <a:gd name="adj1" fmla="val 18365"/>
              <a:gd name="adj2" fmla="val 120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左边再加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6591240" y="1347840"/>
            <a:ext cx="1584360" cy="869760"/>
          </a:xfrm>
          <a:prstGeom prst="wedgeRoundRectCallout">
            <a:avLst>
              <a:gd name="adj1" fmla="val 20171"/>
              <a:gd name="adj2" fmla="val 125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右边再加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627440" y="46418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0+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+20+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138640" y="2786040"/>
            <a:ext cx="3178440" cy="162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968400" y="2830680"/>
            <a:ext cx="3176640" cy="155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3998880" y="3021120"/>
            <a:ext cx="1371600" cy="628560"/>
          </a:xfrm>
          <a:prstGeom prst="rect">
            <a:avLst/>
          </a:prstGeom>
          <a:ln w="0">
            <a:noFill/>
          </a:ln>
        </p:spPr>
      </p:pic>
      <p:sp>
        <p:nvSpPr>
          <p:cNvPr id="81" name="同侧圆角矩形 8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6560" y="5589720"/>
            <a:ext cx="7783560" cy="5508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两边同时减去同一个数，等式仍然成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27"/>
          <p:cNvSpPr/>
          <p:nvPr/>
        </p:nvSpPr>
        <p:spPr>
          <a:xfrm>
            <a:off x="611280" y="1476360"/>
            <a:ext cx="1430280" cy="868320"/>
          </a:xfrm>
          <a:prstGeom prst="wedgeRoundRectCallout">
            <a:avLst>
              <a:gd name="adj1" fmla="val 18365"/>
              <a:gd name="adj2" fmla="val 120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左边拿走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52400" y="46418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+20+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788000" y="1347840"/>
            <a:ext cx="1430280" cy="869760"/>
          </a:xfrm>
          <a:prstGeom prst="wedgeRoundRectCallout">
            <a:avLst>
              <a:gd name="adj1" fmla="val 18365"/>
              <a:gd name="adj2" fmla="val 120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左边拿走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6591240" y="1347840"/>
            <a:ext cx="1584360" cy="869760"/>
          </a:xfrm>
          <a:prstGeom prst="wedgeRoundRectCallout">
            <a:avLst>
              <a:gd name="adj1" fmla="val 20171"/>
              <a:gd name="adj2" fmla="val 125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右边拿走</a:t>
            </a:r>
            <a:r>
              <a:rPr b="0" lang="en-US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504040" y="4641840"/>
            <a:ext cx="30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+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Calibri"/>
              </a:rPr>
              <a:t>等式的两边同时乘或除以相等的数，等式变吗？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066680" y="5264280"/>
            <a:ext cx="6929640" cy="501480"/>
          </a:xfrm>
          <a:prstGeom prst="rect">
            <a:avLst/>
          </a:prstGeom>
          <a:solidFill>
            <a:srgbClr val="4f81bd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两边同时乘同一个数，等式依然成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998880" y="2708280"/>
            <a:ext cx="1066680" cy="428760"/>
          </a:xfrm>
          <a:prstGeom prst="rect">
            <a:avLst/>
          </a:prstGeom>
          <a:ln w="0">
            <a:noFill/>
          </a:ln>
        </p:spPr>
      </p:pic>
      <p:sp>
        <p:nvSpPr>
          <p:cNvPr id="92" name="同侧圆角矩形 15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14520" y="2130480"/>
            <a:ext cx="3384360" cy="14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4"/>
          <p:cNvSpPr/>
          <p:nvPr/>
        </p:nvSpPr>
        <p:spPr>
          <a:xfrm>
            <a:off x="1514520" y="3689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5065560" y="1835280"/>
            <a:ext cx="3557880" cy="1807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4"/>
          <p:cNvSpPr/>
          <p:nvPr/>
        </p:nvSpPr>
        <p:spPr>
          <a:xfrm>
            <a:off x="5867280" y="386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×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3726000" y="2581200"/>
            <a:ext cx="12967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900000" y="5084640"/>
            <a:ext cx="7364520" cy="92880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两边同时除以同一个数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外），等式仍然成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侧圆角矩形 9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82760" y="2138400"/>
            <a:ext cx="3047760" cy="151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038560" y="2071800"/>
            <a:ext cx="3152880" cy="1581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5724360" y="3860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316160" y="39020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×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01640" y="1916280"/>
            <a:ext cx="77151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基本性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i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同时加上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减去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同一个代数式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仍然成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式的基本性质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  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两边同时乘以同一个数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除以同一个不为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数</a:t>
            </a:r>
            <a:r>
              <a:rPr b="1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,</a:t>
            </a: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式仍然成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同侧圆角矩形 5"/>
          <p:cNvSpPr/>
          <p:nvPr/>
        </p:nvSpPr>
        <p:spPr>
          <a:xfrm>
            <a:off x="468360" y="831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68360" y="1487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44680" y="233208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2048760" y="3357720"/>
            <a:ext cx="52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6=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40:26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8:44Z</dcterms:modified>
  <cp:revision>316</cp:revision>
  <dc:subject>www.xkb1.com</dc:subject>
  <dc:title>www.xkb1.com</dc:title>
</cp:coreProperties>
</file>